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2080-EE56-479C-B96B-AFE4F800F0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D37B-F844-4CCE-BC4F-F5CC06EF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268D-3E16-41B4-BCED-5E191A4E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A699-BBCB-4812-8382-85577D2FC2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BB214-FBB6-4DFA-AFE7-D466540B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B563-1655-4041-A594-8D3C60C5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9F97-EBF8-494D-80C3-6CF082E6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B92B-E843-445A-90F7-396FAA0F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899F-CF0F-42A9-974B-6F0625C2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8B4C-986F-4AFA-8626-BC1B94BF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6911-581C-4E9A-A831-9EDAE040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EE42-D1A0-46C6-84E2-6BC3CC2C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7752-6333-4710-BE9A-C4F61793A1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23940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三节 腹  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280" y="2124000"/>
            <a:ext cx="8371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道疾病：由病毒、细菌、真菌、原虫、蠕虫等</a:t>
            </a:r>
            <a:r>
              <a:rPr b="1" lang="zh-CN" sz="2800" spc="-1" strike="noStrike" u="sng">
                <a:solidFill>
                  <a:srgbClr val="969696"/>
                </a:solidFill>
                <a:uFillTx/>
                <a:latin typeface="Verdana"/>
                <a:ea typeface="楷体_GB2312"/>
              </a:rPr>
              <a:t>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引起的肠炎及急性出血性坏死性肠炎、急性克隆病、溃疡性结肠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医院内感染、抗生素使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亦可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810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感染：败血症、伤寒或副伤寒、钩端螺旋体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中毒：服食河豚、鱼胆及化学毒物如砒、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其他：如变态反应性肠炎、过敏性紫癜、服用某些药物如利血平、新斯的明等引起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628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消化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胃部疾病：萎缩性胃炎、胃大部切除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感染：结核、菌痢、血吸虫病、钩虫病、绦虫病、慢性阿米巴性痢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非感染性病变：克罗恩病、溃结、结肠多发性息肉病、吸收不良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肿瘤：结肠癌、结肠其他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胰腺疾病：慢性胰腺炎、胰腺癌、囊性纤维化、胰腺广泛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肝胆疾病：肝硬化、慢性胆囊炎与胆石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内分泌及代谢障碍性疾病：甲亢、胃泌素瘤、类癌综合征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VIP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瘤及糖尿病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副反应：利血平、甲状腺素、洋地黄、考来烯胺等，某些抗肿瘤药物和抗生素亦可致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功能紊乱：神经功能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：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SLE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尿毒症、硬皮病、放射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液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壁细胞和主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黏膜隐窝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吸收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绒毛腔面上皮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  分泌性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3627360" y="446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2592360" y="5003280"/>
            <a:ext cx="0" cy="304920"/>
          </a:xfrm>
          <a:prstGeom prst="line">
            <a:avLst/>
          </a:prstGeom>
          <a:ln cap="sq" w="57240">
            <a:solidFill>
              <a:srgbClr val="046ca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167360" y="5138640"/>
            <a:ext cx="3045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4122360" y="5319720"/>
            <a:ext cx="3049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239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如霍乱弧菌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霍乱弧菌毒素与黏膜细胞受体结合，激活腺苷环化酶，增加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浓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对电解质和水分的分泌起诱导作用，引起大量肠液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866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药物：蓖麻油、酚酞、芦荟、番泻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甲状腺制剂、前列腺素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毒素：霍乱弧菌、大肠埃希菌、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激素：胃泌素瘤、血管活性肠肽瘤（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VI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清素、降钙素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7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270080"/>
            <a:ext cx="78915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临床特征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大量水泻，水样便，便量大于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000ml/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脓血黏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与进食无关，禁食后腹泻不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一般无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钾、粪碳酸氢根浓度高，渗透压接近血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因丢失引起严重低钾血症和酸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腹泻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腹泻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腹泻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腹泻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6280" y="1943280"/>
            <a:ext cx="773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内容物渗透压增高（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8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20mmol/L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血浆中水分通过肠壁进入肠腔，肠腔存留大量液体刺激肠运动而致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5607000" y="405936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57200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药物：泻药如硫酸镁、硫酸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制酸药如氧化镁、氢氧化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脱水剂如甘露醇；还有乳果糖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：乳糖酶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可含有未经消化或吸收的食物或药物，泡沫，有恶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或停药后腹泻停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肠腔内的渗透压超过血浆渗透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电解质含量不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34364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黏膜炎症、溃疡、浸润性病变导致血浆、黏液、脓血等渗出。如各种肠道炎症引起的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脓血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伴有腹痛、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痛部位：小肠（脐周）、结肠（下腹部）、直肠（里急后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动力性腹泻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2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6840" y="1821960"/>
            <a:ext cx="81882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蠕动亢进致肠内食糜停留时间少，未被充分吸收所致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如甲亢、肠炎及胃肠功能紊乱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动力增加         动力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176640" y="419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17600" y="146196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稀烂或水样，无脓血及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泻伴有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正常排便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数：一般每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别每日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或每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正常（成形），黄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每日排出粪便的平均重量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52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黏膜的吸收面积减少或吸收障碍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小肠大部分切除、吸收不良综合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61628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5651640" y="4149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82720" y="1900080"/>
            <a:ext cx="74707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含大量脂肪及泡沫，量多而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可减轻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的渗透压由未吸收的电解质或其他物质所组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46400" y="1733400"/>
            <a:ext cx="5402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起病及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化验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线及结肠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起病及病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起病急，病程短伴有发热、腹泻次数频繁者多为肠道感染或食物中毒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慢性腹泻起病缓慢，病程长，多见于慢性感染、非特异性炎症、吸收不良或肠道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7360" y="1406160"/>
            <a:ext cx="74246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急性感染性腹泻大便次数可达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次以上，粪便量多而稀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细菌感染，则初为水样后为黏液血便或脓血便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阿米巴痢疾的粪便呈果酱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柏油样便：上消化道出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陶土样便：胆道阻塞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米泔水样便：霍乱、副霍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无光样黑色便：动物血、铁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食用大量绿叶蔬菜：暗绿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0720" y="1371240"/>
            <a:ext cx="768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慢性腹泻：每天排便次数可多可少，可为稀薄便，亦可为黏液、脓液或血便，见于慢性细菌性或阿米巴痢疾，亦见于炎症性肠病及结、直肠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33360" y="1371240"/>
            <a:ext cx="73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急性腹泻常有腹痛。小肠疾病的腹泻疼痛常在脐周，便后常不缓解，结肠疾病的疼痛多在下腹，且便后疼痛可缓解或减轻。分泌性腹泻往往无明显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164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5920" y="1270080"/>
            <a:ext cx="774036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疾病史、用药史、不洁饮食、精神因素、同食者群集发病的历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起病、次数、性状、颜色、量及气味，腹泻加重、缓解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功能性健康型态的影响：营养、皮肤、水电解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诊断治疗及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体液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ssage of abnormally liquid  or unformed stools at an increased frequency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ute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ersistent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ronic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腹  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9560" y="1552680"/>
            <a:ext cx="76816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次数增多：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稀薄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80%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带有黏液脓血或未消化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总量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分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1640" y="198108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因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病毒性、细菌性、肿瘤性、过敏性、中毒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程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、慢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性状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血性、脓性、水样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发病机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进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肠的液体和电解质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约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唾液腺、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楷体_GB2312"/>
                <a:ea typeface="楷体_GB2312"/>
              </a:rPr>
              <a:t>胃、肠、肝、胰分泌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约</a:t>
            </a:r>
            <a:r>
              <a:rPr b="1" lang="en-US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7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05160" y="22860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内</a:t>
            </a: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排出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便的水分不到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0.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9fca2"/>
                </a:solidFill>
                <a:uFillTx/>
                <a:latin typeface="楷体_GB2312"/>
                <a:ea typeface="楷体_GB2312"/>
              </a:rPr>
              <a:t>小肠吸收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大肠吸收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1.5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24280" y="2286000"/>
            <a:ext cx="0" cy="33526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分泌</a:t>
            </a:r>
            <a:r>
              <a:rPr b="1" lang="en-US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&gt;</a:t>
            </a: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吸收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吸收                                    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133720" y="2743200"/>
            <a:ext cx="464796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>
            <a:off x="1371240" y="2743200"/>
            <a:ext cx="76212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13372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71600" y="4267080"/>
            <a:ext cx="1447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6095520" y="2743200"/>
            <a:ext cx="68580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78168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095880" y="4267080"/>
            <a:ext cx="13716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419720" y="2743200"/>
            <a:ext cx="0" cy="281952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556272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962520" y="5715000"/>
            <a:ext cx="9144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3962160" y="5562720"/>
            <a:ext cx="7596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800600" y="5562720"/>
            <a:ext cx="7632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362320" y="1828800"/>
            <a:ext cx="4190760" cy="1905120"/>
          </a:xfrm>
          <a:prstGeom prst="line">
            <a:avLst/>
          </a:prstGeom>
          <a:ln w="1260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腹泻产生的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吸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分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Verdana"/>
                <a:ea typeface="华文行楷"/>
              </a:rPr>
              <a:t>胃肠运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041640" y="225900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041640" y="297936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032360" y="387792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5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   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120" y="3200400"/>
            <a:ext cx="3581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持续时间≥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月或间隙期在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周内的复发性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5800" y="1752480"/>
          <a:ext cx="38098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38098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54:11Z</dcterms:created>
  <dc:creator>gzz</dc:creator>
  <dc:description/>
  <cp:keywords/>
  <dc:language>en-US</dc:language>
  <cp:lastModifiedBy>赵欣</cp:lastModifiedBy>
  <cp:lastPrinted>1998-10-02T20:09:37Z</cp:lastPrinted>
  <dcterms:modified xsi:type="dcterms:W3CDTF">2015-12-16T08:03:02Z</dcterms:modified>
  <cp:revision>84</cp:revision>
  <dc:subject/>
  <dc:title>腹泻(diarrhe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